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A592-5A93-4655-B2FC-89D07013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CYTOPENIA:  Heparin/PF4 complex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go aggregation and are removed prematurely from the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SIS:  HIT antibodies of IgG bind to complexes of platelet factor 4 (PF4) and heparin on platelet surfaces, resulting in platelet activation/generation of microparticles which enhanced coagulation reactions and production of thromb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echiae are due to the presence of red cells which have extravasated from capillaries; they are nontender and do not blanch under pressure. They are asymptomatic and not pal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rpura is a purplish discoloration of the skin due to the presence of confluent petech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eripheral smear from a patient with bone marrow fibrosis shows numerous teardrop-shaped red cells (arrows). Note that the teardrops are pointed in several different directions, ruling out an artifact due to preparation of the smea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232-E4BA-4B74-832F-33074B3E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34A-895E-4CCA-B3A5-757B842B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4F9-1AC9-4850-B90F-15D6133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C83-6248-43CB-91C8-917B8D76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40D-4E99-46F5-BD52-A3F4DCF8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AC8-1046-4125-A088-B05635CD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631-BE8B-49EE-B057-23F7C40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F33-3567-4EC4-98B4-F5C41CD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94A-4879-469E-820B-830E375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2EA-B9A8-45B3-92AA-76AF9D90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E75-B37F-4FF2-9AC7-3E44C23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950-FCD5-458E-A489-E06E9E53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AB1-83F8-436A-BB89-4FC66F838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rc.ahajournals.org/content/vol110/issue18/images/large/32FF1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forti.com/STOCKPHOTOGRAPHY/scripts/imageFolio.c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1186154&amp;id=1427622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op=1&amp;view=global&amp;subj=1617347670&amp;pid=1244251&amp;id=119883391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,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I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gt; 20,000 and no bleeding…generally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ids, benefit approx 2/3 of patients…but takes 3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IG works more quickly (several days, and lasts several weeks)…used generally in actively bleeding patients while waiting for steroids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supressive agents/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 induced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lls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150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of 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 is accelerated plt destruction via drug dep anti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OTC meds,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A, NS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ine (tonic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eds can cause thrombocytopenia…and list constantly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recovery after d/c of med is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ts &lt;10,000 or bleeding…transf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 1B r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Off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rin*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ioda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proic acid/Carbamazep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photerici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d sa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ncomy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nine/quinid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me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rim/sulfonam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henyt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icillin/Beta lact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lopidogr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gox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P 2b/3a inhibitor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bcixima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zo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niti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:  Heparin induced thro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ferred to as Heparin induced thrombocytopen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thromb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HIT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1:  Minimal fall of platelets within 2 days of heparin, then returns to normal…non-immune, not clinic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II:  immune mediated fall of platelets generally occurring within 5-10 days after hep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ssociated with minimal use of heparin (even with IV flushes…why we now use sa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2FF1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685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:  0.2-5% of patients exposed to He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disposing one to H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of Hep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UFH (rather than LMWH/loven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 patient &gt; medical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&gt;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us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heparin, started &gt;5 days prior (or less if re-exposed to hepar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fall or more from a prior value (even if still within normal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thrombosis (venous or arter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skin necrosis at site of heparin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, you suspect it…now calculate a pretest probability:  The 4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% fall and nadir &gt;20K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50% f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10-19K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30%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&lt; 10K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onset between day 5-10 post heparin (or w/in 1 day if heparin previously w/in 30days)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” between 5-10 days, but missing data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let fall &lt; 4 days post heparin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two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hrombosis/necrosis/systemic reaction (after IV bolus)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ive/recurrent thrombosis, suspected thrombosis, or non-necrotizing skin lesions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above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auses for Thrombocytop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: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: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tt Akin, M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00helishark" descr="Great White Shark, Farallon Is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4320"/>
            <a:ext cx="6477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0-3 points= low probability (0.9% pre-test probability)  Evaluate for other causes, don’t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4-5 points= intermediate (11% pre-test pro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6-8 points= high probability (34% pre-test prob) 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hepar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arfarin pending rebound of platelet count (give vitamin K if warfarin already star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hecking for lower extremity DV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ansfus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leeding (may precipitate thrombosis)…but consider in patients who “are bleeding or are deemed to be at high risk of bleeding.” (2008 ACCP guide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onheparin anticoagulant if HIT antibodies positive (take 2-3 d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onheparin anticoagu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rudin, argatroban, danaparoid, fondaparinux,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renal fxn: Argatroban (or lepirudin at reduced d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hepatic function: lepirudin, danaparoid, fondapar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:  Argatroban, or reduced dose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agulation (with warfarin) for 2-3 months if no thrombotic event, 3-6 months if thrombotic event (grade 2C ev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880" y="-479520"/>
            <a:ext cx="64296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5510_1454329124705_1427622005_31186153_1621402_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blood loss with transfusion (few platelets in PRB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 1/3 of platelets are sequestered in spl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rtal HT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ve splenomega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equestration (up to 90%) in spl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 plt count in peripheral blood (but available platelet mass normal, therefore rarely bleed).  Note that platelet count usually in 50-100K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common cause of “thrombocytopen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atelet_clumping_in_EDTA" descr="Image"/>
          <p:cNvPicPr/>
          <p:nvPr/>
        </p:nvPicPr>
        <p:blipFill>
          <a:blip r:embed="rId1"/>
          <a:stretch/>
        </p:blipFill>
        <p:spPr>
          <a:xfrm>
            <a:off x="2057400" y="2438280"/>
            <a:ext cx="4915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ul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seudothrombocytop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DTA agglutinin autoantibody mediated Platelet clumping seen in 0.1%-0.2% of all blood dra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xamine the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heparinized/citrat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fingerstick directly applied to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pseudothrombocytopenia often accompanied by falsely high WBC (machine counts plt clumps as WB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, meds m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 ris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” symptom assessment (? Occult mali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eding history (gums, menses, surgical complic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p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skin exam,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chiae: Red pin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ura: Purple confluent petech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hymo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lymphaden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orph050" descr=""/>
          <p:cNvPicPr/>
          <p:nvPr/>
        </p:nvPicPr>
        <p:blipFill>
          <a:blip r:embed="rId1"/>
          <a:stretch/>
        </p:blipFill>
        <p:spPr>
          <a:xfrm>
            <a:off x="1674720" y="1496880"/>
            <a:ext cx="57945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85m" descr=""/>
          <p:cNvPicPr/>
          <p:nvPr/>
        </p:nvPicPr>
        <p:blipFill>
          <a:blip r:embed="rId1"/>
          <a:stretch/>
        </p:blipFill>
        <p:spPr>
          <a:xfrm>
            <a:off x="2378160" y="178272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rombocyt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us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latelets (hign MPV on CBC) imply increased destru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lease from marrow (I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mall platelets suggest reduced BM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stocytes (fragmented RBCs):  M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veal 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rdrop RBC, nucleated RBCs can suggest marrow invasion (tumor/fibrosis/granul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rocytosis with hypersegmented polys can suggest Vitamin B/folate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chistocytes" descr="Image"/>
          <p:cNvPicPr/>
          <p:nvPr/>
        </p:nvPicPr>
        <p:blipFill>
          <a:blip r:embed="rId1"/>
          <a:stretch/>
        </p:blipFill>
        <p:spPr>
          <a:xfrm>
            <a:off x="2457360" y="2006640"/>
            <a:ext cx="4229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28880" y="2398680"/>
            <a:ext cx="29019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158400" tIns="158400" bIns="8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ear_drop_cells" descr="Image"/>
          <p:cNvPicPr/>
          <p:nvPr/>
        </p:nvPicPr>
        <p:blipFill>
          <a:blip r:embed="rId2"/>
          <a:stretch/>
        </p:blipFill>
        <p:spPr>
          <a:xfrm>
            <a:off x="2828880" y="1782720"/>
            <a:ext cx="3486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/PTT (high in MAHA/DIC…liver 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H (hemolysis/M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/Creatinine (HUS/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,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oxo, EBV, CMV serologies if lymphadenopathy, splenomegaly, or “B”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(initial disease manifestation in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 marrow biops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finitively answers the “production vs. destruction”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indicat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xpl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mocytopenia if platelet count low enough (5-10K) to be at risk for major bleed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UNLESS age &lt; 60, thrombocytopenia is isolat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history/PE, and smear suggest the diagnosis (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clusion) of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f age &gt; 60, and suspect likely ITP, BM biopsy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nerally indicated to r/o myleo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elet level is “safe”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gt; 50K:  surgery safe (except neuros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30-50K: risk of major bleeding low.  Rarely have purp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10-30K: risk of mild-moderate bleeding (especially with more extensive trau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lt;10K: high risk for spontaneous hemorrhage (esp if &lt;5K).  These patients have spontaneous bruising, and maybe petechia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IM injections, rectal exams, en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2a9a759ab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 to transfuse platel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usions may induce immun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ransfusions not given in conditions of platelet de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/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 se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NS ble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rgen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I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ransfuse plat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lt; 10,000 (risk of spont. Blee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20,0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40-50,000 prior to an invasive proced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oth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e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100,000 prior to neurosurgery/epidural anesth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“unit” of platelets (“phoresed unit”) raises platelet count by about 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thrombocytopenia in terms of etiology (destruction, decreased production, and “othe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(especially MEDS)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ule out psuedo-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 tells you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before you trans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 platelets &lt; 15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latelets 150,000 - 45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r lab 130-4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 of the normal population will have platelet count lower than “normal” which is NOT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can fall by half, and still be in normal range…which is NOT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live for 8-10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platelets are larger and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4117_1433573838210_1198833912_1244250_3325866_n" descr="">
            <a:hlinkClick r:id="rId1"/>
          </p:cNvPr>
          <p:cNvPicPr/>
          <p:nvPr/>
        </p:nvPicPr>
        <p:blipFill>
          <a:blip r:embed="rId2"/>
          <a:srcRect l="-2772" t="-2776" r="0" b="0"/>
          <a:stretch/>
        </p:blipFill>
        <p:spPr>
          <a:xfrm>
            <a:off x="1066680" y="1676520"/>
            <a:ext cx="716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Thrombocytopeni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ow suppression (usually pancytopeni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viral: parvo, Hep B/C, EBV, varicella, measles, mumps, rubella, MMR vaccine, CMV, toxo, mono, infl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gakaryocyte damage: 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oxicity to bone marrow:  XRT, chemo,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ow infiltr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oma, Myelofibrosis, mets,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s with toxic effect: (non immune medi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azides, estrogens, septra, chemo, cimetidine, famot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d Producti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ignancies:  Myelodysplasia syndrome (age &gt;60…usually anemic/leukopenic), leukemia, myel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12 or Folate deficiency (r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nital (Wiskott-Aldrich, Fanconi syndrome, Bernard-Soul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:  Increased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P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 induced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um:  SLE, RA, APL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V (40% of 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/HUS (suspect when low platelets and MAH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eclam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m110" descr=""/>
          <p:cNvPicPr/>
          <p:nvPr/>
        </p:nvPicPr>
        <p:blipFill>
          <a:blip r:embed="rId1"/>
          <a:stretch/>
        </p:blipFill>
        <p:spPr>
          <a:xfrm>
            <a:off x="2571840" y="2039760"/>
            <a:ext cx="400032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 IT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iopathic throbocytopenic purpur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of exclusi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throbocytopenia      -history of no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r sm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ding m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plee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old standard for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HIV test if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bone marrow biopsy if age &gt;60 to rule out M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platelet antibody panel not generally recommended (low sensitivity and specif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alth Services Department</cp:lastModifiedBy>
  <dcterms:modified xsi:type="dcterms:W3CDTF">2010-05-12T18:50:22Z</dcterms:modified>
  <cp:revision>17</cp:revision>
  <dc:subject/>
  <dc:title>PowerPoint Presentation</dc:title>
</cp:coreProperties>
</file>